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5CFC-EDF5-4521-B87A-97E763AA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2540-7170-4E1E-8E98-57EA0ADF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FE9-0E5F-43BF-A2C4-83EA60A6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B58-EFEB-43EB-9DA3-0D35F5EE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BE0E-BF31-4891-A27D-869B53F5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D4E7-F16B-43B3-BBA4-8E707FC3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D543-1542-4BAE-AB36-B72DDC19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A038-2BCE-460C-A312-4E49E632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3C62-F9F7-4866-AFEE-2BC3DED0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B628-1C34-418A-A5AF-049AC273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DFF5-0786-401D-A5CF-5053FDFD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2094-64E0-478E-ABE9-136B35ED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A256-0CCA-4C6A-8773-3663FF04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86F7-3F57-43FF-93FD-4698A620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A6EE-CA93-44B0-942D-392A989D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0F2A-4115-4803-8000-9731D540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58EB-028C-4843-B688-1DDF5831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C165-3D74-4266-9362-8A06F69C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079-64E1-431D-AFD9-B30B0C0B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76BF-F4B2-45D4-83D6-5B83946D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0A58-67F8-4ADF-B0B0-EED7113E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13FA-2BF3-40B3-B11C-837F404C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B99A-FDCC-4ACF-818D-20DE9A59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166A-8AFE-4414-84A0-D86C729B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7EDC-2B81-457D-B2B2-B17C68AC871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A9A4-75F7-440F-8C69-A8DA5D51D47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ffects of volcan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d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la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ing 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808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fety tip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y great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5:17:09Z</dcterms:created>
  <dc:creator>D83  User</dc:creator>
  <dc:description/>
  <dc:language>en-US</dc:language>
  <cp:lastModifiedBy>D83  User</cp:lastModifiedBy>
  <dcterms:modified xsi:type="dcterms:W3CDTF">2010-10-21T14:16:41Z</dcterms:modified>
  <cp:revision>10</cp:revision>
  <dc:subject/>
  <dc:title>PowerPoint Presentation</dc:title>
</cp:coreProperties>
</file>